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ED466-B64D-450E-BAAC-FC05B9817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85EAC-DE46-47F1-87ED-0C280DA2D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411B6-F810-4269-B55C-21EEEEDD0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7F77E-359E-4658-BEA8-B654CAEA5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58A7A-4F45-4544-BC71-548BD36E5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E8094-CB7D-4A17-8550-4A29F33D8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FA7A9-2869-4D84-A9E7-6EFE2D212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6FE31-564B-4876-903C-34397AC8C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B490B-00CA-4BB1-9849-039EEE4ED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4D00A-56D6-4AFB-912F-8C6142B37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B8617-2E9B-428F-9536-67CC3FF9C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55F51-B6BB-489B-8131-CFDF94089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4A77-C032-440C-9BD5-E9D6FDDAD4CE}"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92280"/>
            <a:ext cx="7772400" cy="489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The Impact Of Multi-National Companie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How Multinationals Affect Host Countries</a:t>
            </a:r>
            <a:endParaRPr b="0" lang="en-US" sz="4000" spc="-1" strike="noStrike">
              <a:solidFill>
                <a:srgbClr val="000000"/>
              </a:solidFill>
              <a:latin typeface="Calibri"/>
            </a:endParaRPr>
          </a:p>
        </p:txBody>
      </p:sp>
      <p:sp>
        <p:nvSpPr>
          <p:cNvPr id="59"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Multi-national companies in Brazil:</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razil has encouraged multi-national companies to locate in the industrial areas around the major cities of Rio de Janeiro, Belo Horizonte and Sao Paulo.</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cellent transport links to most places in the world have encouraged companies to locate in the area.</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panies such as Coca-Cola, Fiat and Volkswagen all have located in this area. There are plentiful natural resources, a large workforce and lots of suitable land for large-scale factorie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arge industrial areas have been specifically set up outside of these great cities for the companies to locate i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ultinational/Transnational</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ulti-national or Trans-national companies</a:t>
            </a:r>
            <a:r>
              <a:rPr b="0" lang="en-US" sz="2700" spc="-1" strike="noStrike">
                <a:solidFill>
                  <a:srgbClr val="000000"/>
                </a:solidFill>
                <a:latin typeface="Calibri"/>
              </a:rPr>
              <a:t> are ones which locate their factories throughout the world.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gives them many benefits, such as access to the world market, cheap labour, cheaper production costs, and therefore greater profits.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headquarters of the company remains in its original country, usually one of the most developed countries in the world, such as the UK or USA.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y then have factories throughout the world, which either make parts or entire finished products for the company to sell on the world marke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It’s All About The Money</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st of the largest multi-national companies are oil companies such as BP and Exxon (Esso), as well car companies (for example, Ford, Toyota, Nissan and Volkswagen).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ther well-known companies such as Coca-Cola, IBM and Sony are also defined as being multi-national.</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lti-national companies locate around the world for their own benefit - in other words - to make as much money as possibl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y bring with them both advantages and disadvantages for the country that plays host to them.</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How Multinationals Affect Host Countries</a:t>
            </a:r>
            <a:endParaRPr b="0" lang="en-US" sz="40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Investment:</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dvantages:</a:t>
            </a:r>
            <a:r>
              <a:rPr b="0" lang="en-US" sz="2500" spc="-1" strike="noStrike">
                <a:solidFill>
                  <a:srgbClr val="000000"/>
                </a:solidFill>
                <a:latin typeface="Calibri"/>
              </a:rPr>
              <a:t> The companies bring much needed money into the country. Although most of their profits do return to the company's country of origin, the local economy does benefit.</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Disadvantages:</a:t>
            </a:r>
            <a:r>
              <a:rPr b="0" lang="en-US" sz="2500" spc="-1" strike="noStrike">
                <a:solidFill>
                  <a:srgbClr val="000000"/>
                </a:solidFill>
                <a:latin typeface="Calibri"/>
              </a:rPr>
              <a:t> The wages paid to local workers are often low and some companies have been accused of exploiting the local workforce rather than benefiting it. There are often tax incentives for these companies to locate in countries in the Developing World. This added to the fact that they take most of their profits out of the country, means that the actual economic benefit to the country could be minimal.</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How Multinationals Affect Host Countries</a:t>
            </a:r>
            <a:endParaRPr b="0" lang="en-US" sz="40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Technolog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dvantages:</a:t>
            </a:r>
            <a:r>
              <a:rPr b="0" lang="en-US" sz="2800" spc="-1" strike="noStrike">
                <a:solidFill>
                  <a:srgbClr val="000000"/>
                </a:solidFill>
                <a:latin typeface="Calibri"/>
              </a:rPr>
              <a:t> The companies help the development of the country by bringing in technology and knowledge that the host country does not poss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advantages:</a:t>
            </a:r>
            <a:r>
              <a:rPr b="0" lang="en-US" sz="2800" spc="-1" strike="noStrike">
                <a:solidFill>
                  <a:srgbClr val="000000"/>
                </a:solidFill>
                <a:latin typeface="Calibri"/>
              </a:rPr>
              <a:t> Unless the company actively participates in a program to educate local companies in the new technologies, the country's industry will not really benefit. Multi-national companies might be worried by sharing too much information, as they could find themselves with increased competition from local compan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How Multinationals Affect Host Countries</a:t>
            </a: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Trans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vantages:</a:t>
            </a:r>
            <a:r>
              <a:rPr b="0" lang="en-US" sz="3200" spc="-1" strike="noStrike">
                <a:solidFill>
                  <a:srgbClr val="000000"/>
                </a:solidFill>
                <a:latin typeface="Calibri"/>
              </a:rPr>
              <a:t> The new companies often help to improve transport links around the ar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advantages:</a:t>
            </a:r>
            <a:r>
              <a:rPr b="0" lang="en-US" sz="3200" spc="-1" strike="noStrike">
                <a:solidFill>
                  <a:srgbClr val="000000"/>
                </a:solidFill>
                <a:latin typeface="Calibri"/>
              </a:rPr>
              <a:t> The transport links that do receive financial help from the multi-nationals often only serve the direct routes and needs of that company, not the wider area as w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How Multinationals Affect Host Countries</a:t>
            </a:r>
            <a:endParaRPr b="0" lang="en-US" sz="40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Employ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vantages:</a:t>
            </a:r>
            <a:r>
              <a:rPr b="0" lang="en-US" sz="3200" spc="-1" strike="noStrike">
                <a:solidFill>
                  <a:srgbClr val="000000"/>
                </a:solidFill>
                <a:latin typeface="Calibri"/>
              </a:rPr>
              <a:t> They create jobs for the local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advantages:</a:t>
            </a:r>
            <a:r>
              <a:rPr b="0" lang="en-US" sz="3200" spc="-1" strike="noStrike">
                <a:solidFill>
                  <a:srgbClr val="000000"/>
                </a:solidFill>
                <a:latin typeface="Calibri"/>
              </a:rPr>
              <a:t> Often the jobs are highly skilled and so the company brings in their own people to do them. Also, the technological nature of many of these companies means that there aren't as many jobs as there might have be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How Multinationals Affect Host Countries</a:t>
            </a:r>
            <a:endParaRPr b="0" lang="en-US" sz="40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Calibri"/>
              </a:rPr>
              <a:t>Growth poles:</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Advantages:</a:t>
            </a:r>
            <a:r>
              <a:rPr b="0" lang="en-US" sz="2900" spc="-1" strike="noStrike">
                <a:solidFill>
                  <a:srgbClr val="000000"/>
                </a:solidFill>
                <a:latin typeface="Calibri"/>
              </a:rPr>
              <a:t> The new multi-national companies act as growth poles for other similar companies. They could encourage more companies to locate in that country once they see the benefits that it brings.</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isadvantages:</a:t>
            </a:r>
            <a:r>
              <a:rPr b="0" lang="en-US" sz="2900" spc="-1" strike="noStrike">
                <a:solidFill>
                  <a:srgbClr val="000000"/>
                </a:solidFill>
                <a:latin typeface="Calibri"/>
              </a:rPr>
              <a:t> Only a limited range of companies find that moving to a Developing World location is beneficial. They will only move there if it makes economic sense for the country. They do not consider the potential benefits to the host country.</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How Multinationals Affect Host Countries</a:t>
            </a:r>
            <a:endParaRPr b="0" lang="en-US" sz="4000" spc="-1" strike="noStrike">
              <a:solidFill>
                <a:srgbClr val="000000"/>
              </a:solidFill>
              <a:latin typeface="Calibri"/>
            </a:endParaRPr>
          </a:p>
        </p:txBody>
      </p:sp>
      <p:sp>
        <p:nvSpPr>
          <p:cNvPr id="57"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Calibri"/>
              </a:rPr>
              <a:t>Environment/Safety:</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Advantages:</a:t>
            </a:r>
            <a:r>
              <a:rPr b="0" lang="en-US" sz="3100" spc="-1" strike="noStrike">
                <a:solidFill>
                  <a:srgbClr val="000000"/>
                </a:solidFill>
                <a:latin typeface="Calibri"/>
              </a:rPr>
              <a:t> Companies bring with them the technology and expertise to reduce harmful pollution and create a safe working environment.</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Disadvantages:</a:t>
            </a:r>
            <a:r>
              <a:rPr b="0" lang="en-US" sz="3100" spc="-1" strike="noStrike">
                <a:solidFill>
                  <a:srgbClr val="000000"/>
                </a:solidFill>
                <a:latin typeface="Calibri"/>
              </a:rPr>
              <a:t> Many multi-national companies have very poor records on pollution and worker safety. They have been accused of trying to cut corners with both safety and pollution in order to keep costs down.</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04:37:15Z</dcterms:created>
  <dc:creator>Dell_02</dc:creator>
  <dc:description/>
  <dc:language>en-US</dc:language>
  <cp:lastModifiedBy>Dell_02</cp:lastModifiedBy>
  <dcterms:modified xsi:type="dcterms:W3CDTF">2011-01-27T04:45:01Z</dcterms:modified>
  <cp:revision>1</cp:revision>
  <dc:subject/>
  <dc:title>The Impact Of Multi-National Companies</dc:title>
</cp:coreProperties>
</file>